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A7E-DCA3-4255-A685-20574BA9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887-F56F-4314-9F11-E63D48C9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558-AB05-46D9-9817-051982B9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7DE5-F20C-4151-860A-08BDF49F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1898-8754-4591-BFBC-645FD7A0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72C2-E022-473F-AE75-1DB813CF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93E7-26CC-467F-9802-846A7550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B9DF-83A2-44E6-80E5-159407D4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78FBB-82C3-4DEE-BC8A-34C82AE5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AFF2-2DC8-4C20-96A5-95D0C9AA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4D82-54DE-4C17-98B7-6272F6DB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A51-30C0-4162-8A2D-1BB8CF96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39CD-09DB-4968-97F7-F136A48C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62CA-0C1F-4106-9939-C3620E9D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501D5-55CA-4E1C-9C5D-A159D8023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1058-D82B-4297-BBDD-FA8F7D574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3260-29B0-48E8-B89A-458FDE13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97F2-DF33-4FC9-8F1B-5128B65C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7C2AB-271B-4F77-BC76-CA67397A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F3DF-6D82-4FC5-9745-6BC32E52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99E9-0F68-4F65-96D1-C24E31DAA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B2B2-126B-4862-A461-36476701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B8DB-80D9-4689-9BF0-1AD7F92E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FC9C-C77B-4FA3-AD1D-62A1F879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cccc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99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66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F661-2D3B-4FCE-9C64-0AA8997B071A}" type="slidenum"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cccc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99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33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99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cccccc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cccc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8DD2-D22D-45BD-811E-A5DD7375FC03}" type="slidenum">
              <a:rPr b="0" lang="en-US" sz="1000" spc="-1" strike="noStrike">
                <a:solidFill>
                  <a:srgbClr val="cccc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9933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cc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cccc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66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cccc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RA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33720" y="3124080"/>
            <a:ext cx="5676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Land</a:t>
            </a: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Mountain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66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Elburz – North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66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Zagros – South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4762440" cy="311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381560" y="762120"/>
            <a:ext cx="476244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Land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Caspian Sea 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Persian Gulf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181480" y="1752480"/>
            <a:ext cx="3619800" cy="35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Economy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Oi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Diversify Economy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Farming&lt; 12%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62520" y="3121200"/>
            <a:ext cx="4981320" cy="37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People</a:t>
            </a: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Persian not Arab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Tehran – Capital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98% Muslim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81480" y="1905120"/>
            <a:ext cx="486252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imes New Roman"/>
              </a:rPr>
              <a:t>History/Government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Shahs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33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Arial"/>
              </a:rPr>
              <a:t>Islamic Republic</a:t>
            </a:r>
            <a:endParaRPr b="0" lang="en-US" sz="2800" spc="-1" strike="noStrike">
              <a:solidFill>
                <a:srgbClr val="cccccc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996633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Arial"/>
              </a:rPr>
              <a:t>Mahmoud Ahmadinejad</a:t>
            </a:r>
            <a:endParaRPr b="0" lang="en-US" sz="2600" spc="-1" strike="noStrike">
              <a:solidFill>
                <a:srgbClr val="cccccc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105520" y="3733920"/>
            <a:ext cx="351936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5:04:47Z</dcterms:created>
  <dc:creator>Cumberland County School</dc:creator>
  <dc:description/>
  <dc:language>en-US</dc:language>
  <cp:lastModifiedBy> John Doe</cp:lastModifiedBy>
  <dcterms:modified xsi:type="dcterms:W3CDTF">2008-01-18T19:33:20Z</dcterms:modified>
  <cp:revision>5</cp:revision>
  <dc:subject/>
  <dc:title>IRA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